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05E-1D6B-4DE3-9477-0BB93924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277-1EF1-4774-A8F7-9222B179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0FD-9596-4B11-AE48-8F0B4BB6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F1B-DFCA-48DB-AAF7-54E7FE78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C90-74F6-4C93-B9CD-3E1FAB3D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667-82F1-4771-BAFF-8AED04DF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A86-3C29-487B-93A9-41DFAB74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FB3-BC1A-4791-B025-009BDBD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A31-4BB1-424F-A130-65393742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1D0-DBB7-4725-9369-29C5EC3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F0F-07AF-4DD2-A238-876BA25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674-4A10-4F26-8DA4-6EAB41E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6137-2FBD-4825-B085-439D7270E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Tyler Loftin &lt;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209680" y="2286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vie"/>
              </a:rPr>
              <a:t>Pol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133720" y="1219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A Greek city-st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t2.gstatic.com/images?q=tbn:ANd9GcTKLbmFwluVCLz_Hcjdpp1LGIW8XE4OPOUCNFMVghqU542Bv5Xw"/>
          <p:cNvPicPr/>
          <p:nvPr/>
        </p:nvPicPr>
        <p:blipFill>
          <a:blip r:embed="rId1"/>
          <a:stretch/>
        </p:blipFill>
        <p:spPr>
          <a:xfrm>
            <a:off x="0" y="3276720"/>
            <a:ext cx="6138720" cy="3581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6324480" y="350532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e city pol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057400" y="304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Philosoph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828800" y="13716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A study of wisdom and the right way to l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t1.gstatic.com/images?q=tbn:ANd9GcQw3-kKBUDUasy8zJbNxQ62OVzzkUsZVTB5AV_Y6HFVgp47bcd0"/>
          <p:cNvPicPr/>
          <p:nvPr/>
        </p:nvPicPr>
        <p:blipFill>
          <a:blip r:embed="rId1"/>
          <a:stretch/>
        </p:blipFill>
        <p:spPr>
          <a:xfrm>
            <a:off x="0" y="3352680"/>
            <a:ext cx="5502240" cy="3505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6019920" y="3200400"/>
            <a:ext cx="251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A man speaking to an audience about Philosop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2971800" y="685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Peninsul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600200" y="16765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An area of land nearly surrounded by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t0.gstatic.com/images?q=tbn:ANd9GcRLRwu9FbTtbR9TgVDWxhpZ0nlPnrJjfdNC1cisqC8BBvJPTcOj"/>
          <p:cNvPicPr/>
          <p:nvPr/>
        </p:nvPicPr>
        <p:blipFill>
          <a:blip r:embed="rId1"/>
          <a:stretch/>
        </p:blipFill>
        <p:spPr>
          <a:xfrm>
            <a:off x="1676520" y="2971800"/>
            <a:ext cx="5410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828800" y="609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Peloponnesian W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09680" y="15238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he war between Athens and Spar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t3.gstatic.com/images?q=tbn:ANd9GcSyB9tTsn5OTZ5_kSDrcOShDZilqsTVE73O40WlxdJyjXI8QVqc"/>
          <p:cNvPicPr/>
          <p:nvPr/>
        </p:nvPicPr>
        <p:blipFill>
          <a:blip r:embed="rId1"/>
          <a:stretch/>
        </p:blipFill>
        <p:spPr>
          <a:xfrm>
            <a:off x="1447920" y="2743200"/>
            <a:ext cx="6476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438280" y="533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Olig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143000" y="13716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The kind of government that is run by a small group of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2057400" y="3124080"/>
            <a:ext cx="4114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590920" y="533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Har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362320" y="152388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A shelter place along a coas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2.gstatic.com/images?q=tbn:ANd9GcRG1ZXVDEo1kFfFh9k9CeXJT6WxHD03hwn5MhV5pPKpUAY5ai15"/>
          <p:cNvPicPr/>
          <p:nvPr/>
        </p:nvPicPr>
        <p:blipFill>
          <a:blip r:embed="rId1"/>
          <a:stretch/>
        </p:blipFill>
        <p:spPr>
          <a:xfrm>
            <a:off x="1905120" y="342900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523880" y="114300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vie"/>
              </a:rPr>
              <a:t>A large hill which the Greeks built their city-states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Athens_Acropolis.jpg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Agor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295280" y="990720"/>
            <a:ext cx="6477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A 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gora.jpg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28600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avie"/>
              </a:rPr>
              <a:t>Assemb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209680" y="152388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vie"/>
              </a:rPr>
              <a:t>A lawmaking place where people voted on issues that helped their 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ssembly Greece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2971800" y="457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Citi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447920" y="144792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A person who has certain rights and responsibilities to his or 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itizen.jpg"/>
          <p:cNvPicPr/>
          <p:nvPr/>
        </p:nvPicPr>
        <p:blipFill>
          <a:blip r:embed="rId1"/>
          <a:stretch/>
        </p:blipFill>
        <p:spPr>
          <a:xfrm>
            <a:off x="1905120" y="3276720"/>
            <a:ext cx="49528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19520" y="380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vie"/>
              </a:rPr>
              <a:t>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295280" y="9907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olonys.jpg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66880" y="380880"/>
            <a:ext cx="3657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2971800" y="5335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urlz MT"/>
              </a:rPr>
              <a:t>Democrac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676520" y="167652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urlz MT"/>
              </a:rPr>
              <a:t>A form of government where people vote to make decis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55840"/>
            <a:ext cx="380988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democracy.bmp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438280" y="3808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Ravie"/>
              </a:rPr>
              <a:t>Ju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209680" y="11430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avie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jury.bmp"/>
          <p:cNvPicPr/>
          <p:nvPr/>
        </p:nvPicPr>
        <p:blipFill>
          <a:blip r:embed="rId1"/>
          <a:stretch/>
        </p:blipFill>
        <p:spPr>
          <a:xfrm>
            <a:off x="1600200" y="3124080"/>
            <a:ext cx="6019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438280" y="533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Monarch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752480" y="13716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Government headed by one rul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t0.gstatic.com/images?q=tbn:ANd9GcTQhPslD_ej1hCsNtaqWCAAVm3cpAxNlEfY34REiaV3NdteoJBn"/>
          <p:cNvPicPr/>
          <p:nvPr/>
        </p:nvPicPr>
        <p:blipFill>
          <a:blip r:embed="rId1"/>
          <a:stretch/>
        </p:blipFill>
        <p:spPr>
          <a:xfrm>
            <a:off x="1295280" y="2590920"/>
            <a:ext cx="5867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4:02Z</dcterms:modified>
  <cp:revision>100</cp:revision>
  <dc:subject/>
  <dc:title>Ancient Greece</dc:title>
</cp:coreProperties>
</file>